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2AD7-237D-43A0-9FA7-3F4A9AB57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E90E-2ED1-4005-85BA-FF426879D1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BF6-68B3-4C83-B701-9AD7D005C1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B5D8-FD31-4982-8407-A835AED4EE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365D-7A6D-44D1-A384-35BB01FB95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9ED-C976-4126-894B-638361CD60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9649-6145-47CC-B90F-DE8566D96A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00B-1154-4D81-988A-34635BC435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DBA-3CB3-4A33-8BFE-04CC6439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940-D67F-4E3D-B207-E123DF57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816-4DD9-49E5-8B4C-15A3A545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E69-93CB-4258-A382-02E25D96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37EE-4EC0-457E-8E77-413CF584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509E-9B17-4C06-86C7-20EDB55D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A8D9-691B-4639-A506-5F09B39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2039-2B8A-4CEF-8075-CB358FAB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566A-F739-447A-AB4F-60712E06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88BB-9F94-4907-BE19-BAAB5F5C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9D94-4A20-4A47-A131-E4E308B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871-2F14-4C5D-BB8C-4B6DCF01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8520-BA61-4F90-8097-0E289027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D07F-DABE-490D-9C46-9EF83774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2FD4-D74B-4078-9CCC-F0BC3069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34C2-089C-4E1D-9002-6677E407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6FEC-745E-40AE-8D81-58F8E797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3FF-E8FC-4FD8-BA52-29DD4131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370-65F5-4650-9E8A-7565CB7C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F1F-19FF-405F-9675-2E540785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6FA-ABA5-4629-9706-E2A3B6B1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E75-3465-447A-913C-C764CD67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AE2-1D85-43F7-85F5-37707EB2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32C-EF8C-4B3D-AAFF-CD07E361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B80D-F43C-499E-BCBC-04271EA18FD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389F-2CB9-4829-A8FC-8EEBC19D1A3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arning Autobiograph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rough pic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yr fence.jpg"/>
          <p:cNvPicPr/>
          <p:nvPr/>
        </p:nvPicPr>
        <p:blipFill>
          <a:blip r:embed="rId1"/>
          <a:stretch/>
        </p:blipFill>
        <p:spPr>
          <a:xfrm>
            <a:off x="2666880" y="685800"/>
            <a:ext cx="34117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8yrs hs grad w buds.jpg"/>
          <p:cNvPicPr/>
          <p:nvPr/>
        </p:nvPicPr>
        <p:blipFill>
          <a:blip r:embed="rId1"/>
          <a:stretch/>
        </p:blipFill>
        <p:spPr>
          <a:xfrm>
            <a:off x="1854360" y="1617840"/>
            <a:ext cx="5435280" cy="36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752480" y="1523880"/>
            <a:ext cx="5410440" cy="4191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can0001.jpg"/>
          <p:cNvPicPr/>
          <p:nvPr/>
        </p:nvPicPr>
        <p:blipFill>
          <a:blip r:embed="rId1"/>
          <a:stretch/>
        </p:blipFill>
        <p:spPr>
          <a:xfrm>
            <a:off x="1219320" y="1676520"/>
            <a:ext cx="6254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PIM3703.JPG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SC_0099.JPG"/>
          <p:cNvPicPr/>
          <p:nvPr/>
        </p:nvPicPr>
        <p:blipFill>
          <a:blip r:embed="rId1"/>
          <a:stretch/>
        </p:blipFill>
        <p:spPr>
          <a:xfrm>
            <a:off x="1143000" y="990720"/>
            <a:ext cx="69786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2:21:26Z</dcterms:created>
  <dc:creator>bdub40</dc:creator>
  <dc:description/>
  <dc:language>en-US</dc:language>
  <cp:lastModifiedBy>bdub40</cp:lastModifiedBy>
  <dcterms:modified xsi:type="dcterms:W3CDTF">2011-01-25T03:16:02Z</dcterms:modified>
  <cp:revision>3</cp:revision>
  <dc:subject/>
  <dc:title>Slide 1</dc:title>
</cp:coreProperties>
</file>